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1.png" ContentType="image/png"/>
  <Override PartName="/ppt/media/image17.gif" ContentType="image/gif"/>
  <Override PartName="/ppt/media/image2.jpeg" ContentType="image/jpe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667-8EA4-4128-86D8-626A2D02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428-98F4-4E74-88AF-C4F5E862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83B-028B-43C3-BD11-634964AD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4D5-D077-4D16-B7F1-61113C6E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952-7A9E-4EEC-B040-8A947ED5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E4A-CBDD-46A3-806B-92B3562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927-4775-4427-A06D-99A4EC6E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F3A-07A4-4DE2-BBB8-5BA35DA5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B7F-8C87-496A-828B-D98B64EB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D48-64C6-4CA6-87EF-8879D0F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930-A975-410B-81B7-3BC5F517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9BC-7679-4779-BA04-A6518EC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BFFC-F088-4E75-9BF0-8EB2CB7D2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ssuel.org/salud/circu4.htm" TargetMode="External"/><Relationship Id="rId2" Type="http://schemas.openxmlformats.org/officeDocument/2006/relationships/image" Target="../media/image3.gif"/><Relationship Id="rId3" Type="http://schemas.openxmlformats.org/officeDocument/2006/relationships/hyperlink" Target="http://www.iessuel.org/salud/ssvv/cardiovgrande.ht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869000"/>
            <a:ext cx="93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w Cen MT Condensed Extra Bold"/>
              </a:rPr>
              <a:t>El agua y los seres viv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1413000"/>
            <a:ext cx="4249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 Extra Bold"/>
              </a:rPr>
              <a:t>El agua permite que las plantas tomen del suelo, gracias a las raíces, sales minerales disuel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5812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522936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Permite que sustancias disueltas circulen por todo nuestro organ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La sangre describe dos circuitos complementarios llamados circulación mayor o general y menor o pulmonar... Pulsa para más informació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341360"/>
            <a:ext cx="1866960" cy="324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Ampliar imag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1268280"/>
            <a:ext cx="1614600" cy="388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3080" y="465300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arato Circul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55640" y="1341360"/>
            <a:ext cx="167652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364500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 corazón es una bomba que impulsa la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484000" y="2276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6160" y="1844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2276640"/>
            <a:ext cx="20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87280" y="981000"/>
          <a:ext cx="680904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81000"/>
                    <a:ext cx="680904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465300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 Extra Bold"/>
              </a:rPr>
              <a:t>El agua disuelve oxígeno, necesario para los animales acuáticos. Las branquias permiten tomar ese oxígeno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24360" y="909720"/>
            <a:ext cx="4967280" cy="3057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0720" y="4005360"/>
            <a:ext cx="37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quias de un p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1486080"/>
            <a:ext cx="3527280" cy="160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2349360"/>
            <a:ext cx="14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357720"/>
            <a:ext cx="153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érculo (bajo él están las branqu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9560" y="838080"/>
            <a:ext cx="24865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a con oxígeno (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643280" y="328572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956720" y="3285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19640" y="4653000"/>
            <a:ext cx="1427400" cy="1019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92720" y="5589720"/>
            <a:ext cx="31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tortugas marinas y las ballenas y delfines salen a respirar aire (no tienen branquias, sino pulm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987640" y="3862440"/>
            <a:ext cx="758880" cy="698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158436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19651800">
            <a:off x="4427640" y="4220640"/>
            <a:ext cx="2960640" cy="225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8360" y="1168560"/>
            <a:ext cx="4365720" cy="568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48360" y="1197000"/>
            <a:ext cx="36702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El agua disuelve el CO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necesario para 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las algas h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la fotosínt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6165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736920" cy="552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826920" y="2060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6200000">
            <a:off x="1619280" y="2925720"/>
            <a:ext cx="649440" cy="503280"/>
          </a:xfrm>
          <a:custGeom>
            <a:avLst/>
            <a:gdLst>
              <a:gd name="textAreaLeft" fmla="*/ 101520 w 649440"/>
              <a:gd name="textAreaRight" fmla="*/ 568440 w 6494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2770200" y="3717720"/>
            <a:ext cx="649080" cy="503280"/>
          </a:xfrm>
          <a:custGeom>
            <a:avLst/>
            <a:gdLst>
              <a:gd name="textAreaLeft" fmla="*/ 101160 w 649080"/>
              <a:gd name="textAreaRight" fmla="*/ 568080 w 6490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4627440" cy="590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203640" y="1773360"/>
            <a:ext cx="3816360" cy="50472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547640" y="3645000"/>
            <a:ext cx="792360" cy="747720"/>
            <a:chOff x="1547640" y="3645000"/>
            <a:chExt cx="792360" cy="747720"/>
          </a:xfrm>
        </p:grpSpPr>
        <p:sp>
          <p:nvSpPr>
            <p:cNvPr id="84" name=""/>
            <p:cNvSpPr/>
            <p:nvPr/>
          </p:nvSpPr>
          <p:spPr>
            <a:xfrm>
              <a:off x="1547640" y="3645000"/>
              <a:ext cx="792360" cy="747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60600" y="3645000"/>
              <a:ext cx="683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700360" y="2708280"/>
            <a:ext cx="863640" cy="792000"/>
            <a:chOff x="2700360" y="2708280"/>
            <a:chExt cx="863640" cy="792000"/>
          </a:xfrm>
        </p:grpSpPr>
        <p:sp>
          <p:nvSpPr>
            <p:cNvPr id="87" name=""/>
            <p:cNvSpPr/>
            <p:nvPr/>
          </p:nvSpPr>
          <p:spPr>
            <a:xfrm>
              <a:off x="2700360" y="2708280"/>
              <a:ext cx="86364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00360" y="2781360"/>
              <a:ext cx="8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w Cen MT Condensed Extra Bold"/>
              </a:rPr>
              <a:t>Importancia del agua en los seres v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9736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agua permite refrescarnos con la sudoración (el sudor es agua y sustancias disueltas). Evita que nos sobrecalent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1805040" cy="334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84360" y="1989000"/>
            <a:ext cx="20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sudor es principalmente agua con sales minerales disue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84720" y="1197000"/>
            <a:ext cx="434160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236000" y="2924280"/>
            <a:ext cx="1295280" cy="1224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20:59:39Z</dcterms:created>
  <dc:creator>euyin</dc:creator>
  <dc:description/>
  <dc:language>en-US</dc:language>
  <cp:lastModifiedBy>Eugenio</cp:lastModifiedBy>
  <dcterms:modified xsi:type="dcterms:W3CDTF">2010-02-14T18:54:24Z</dcterms:modified>
  <cp:revision>412</cp:revision>
  <dc:subject/>
  <dc:title>Diapositiva 1</dc:title>
</cp:coreProperties>
</file>